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6.wmf" ContentType="image/x-wmf"/>
  <Override PartName="/ppt/media/image24.png" ContentType="image/png"/>
  <Override PartName="/ppt/media/image22.wmf" ContentType="image/x-wmf"/>
  <Override PartName="/ppt/media/image21.jpeg" ContentType="image/jpeg"/>
  <Override PartName="/ppt/media/image18.wmf" ContentType="image/x-wmf"/>
  <Override PartName="/ppt/media/image2.jpeg" ContentType="image/jpeg"/>
  <Override PartName="/ppt/media/image20.png" ContentType="image/png"/>
  <Override PartName="/ppt/media/image16.png" ContentType="image/png"/>
  <Override PartName="/ppt/media/image14.jpeg" ContentType="image/jpeg"/>
  <Override PartName="/ppt/media/image15.wmf" ContentType="image/x-wmf"/>
  <Override PartName="/ppt/media/image1.jpeg" ContentType="image/jpeg"/>
  <Override PartName="/ppt/media/image10.jpeg" ContentType="image/jpeg"/>
  <Override PartName="/ppt/media/image5.png" ContentType="image/png"/>
  <Override PartName="/ppt/media/image27.png" ContentType="image/png"/>
  <Override PartName="/ppt/media/image12.wmf" ContentType="image/x-wmf"/>
  <Override PartName="/ppt/media/image30.jpeg" ContentType="image/jpeg"/>
  <Override PartName="/ppt/media/image35.wmf" ContentType="image/x-wmf"/>
  <Override PartName="/ppt/media/image32.jpeg" ContentType="image/jpeg"/>
  <Override PartName="/ppt/media/image33.wmf" ContentType="image/x-wmf"/>
  <Override PartName="/ppt/media/image13.png" ContentType="image/png"/>
  <Override PartName="/ppt/media/image37.jpeg" ContentType="image/jpeg"/>
  <Override PartName="/ppt/media/image40.wmf" ContentType="image/x-wmf"/>
  <Override PartName="/ppt/media/image34.jpeg" ContentType="image/jpeg"/>
  <Override PartName="/ppt/media/image7.jpeg" ContentType="image/jpeg"/>
  <Override PartName="/ppt/media/image28.jpeg" ContentType="image/jpeg"/>
  <Override PartName="/ppt/media/image36.wmf" ContentType="image/x-wmf"/>
  <Override PartName="/ppt/media/image39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29.wmf" ContentType="image/x-wmf"/>
  <Override PartName="/ppt/media/image31.png" ContentType="image/png"/>
  <Override PartName="/ppt/media/image6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999D-131D-4596-804C-18B8DF8D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9848-65C6-427E-9DA2-6509FAC3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386E-1CBB-437F-916D-38D277312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4C9B-DDEE-44BD-8C03-087FAFB7F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58A4-3DAC-468D-86CB-1D5292EFD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F2D6-0BB7-4BED-BB4C-DD755876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EB93-0A1D-43CB-9DA5-2A34820F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2929-1041-4582-8D9F-C55042A3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9279-D8D3-4466-961D-7C5EE152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9E0E-74CC-4E78-9493-8281458D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ED3C-35F3-43EB-A59C-0DA8F9F9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BBFC-5A94-4761-B9D9-4ED3D93E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EE3B-2CFF-488E-A4BB-538FBD3E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997C-4B3F-4B9A-8EAB-03603310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0302-EF48-4856-86E7-5E38675F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FDC6-1D03-46E7-9C70-3FBB83937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3206-D3AB-474F-A134-FD3563C8C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92FD2-EFA9-4FFF-9574-6BC4EBAD3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36626-E3C5-415F-A672-6F6A4AD5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4A7AB-F5BC-43C1-9A61-9BF4B5E7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C6372-FA4B-4792-8CAA-4D1A536E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B368E-7EA9-4BCF-9316-C035608A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848F-840B-40DD-8069-07525404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36FF2-37BF-4B5F-8E3E-E6DF929B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53504-B6D9-42E3-BA80-E783702E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C40D0-AD28-45AF-9892-47428219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92A60-B5D4-464F-AAF5-5FB688AA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0F91F-5830-4CBE-81E8-B49DDDC1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B3FEE-5E94-42CD-BD9E-225E2D256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E9755-3459-46C6-9355-589826A5A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EEF44-1A7B-467F-92C3-CDA692C80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7B1AF-B2B8-45B6-BD85-37E64E6B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CD2D1-930E-455B-A049-3B03A351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D84A-4D5E-4E77-8B84-84AE2CA5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1CA3F-5082-4167-9C9F-58479217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34DE6-B99C-44E3-B7B2-7107DA2E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E5E88-3EA5-47DF-B474-6436DC34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9C2E7-1AD6-4C7D-B7F3-8B0E16B7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D51BD-D57A-496D-9288-35BF0A78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EF5F7-3DA0-4C9C-8596-2A06177A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EF0D2-936A-4787-82FB-47945302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6DA4A-4A78-4D5A-83EC-390F2ECD3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1E86E-0BFF-4CFF-BA90-70AD248ED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B5702-88CE-4631-9108-387FBF20A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05F5-C5DA-4618-8A95-C08FCB5D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7DBA1-820C-4B19-91EB-52D97FDA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DED54-F00F-4559-A399-50BAA5DF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64E7E-F8CE-417B-9221-C1214471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A0A17-0A63-45AE-961B-839FFAB3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DA947-2762-4A54-934B-610BA75F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086A5-64D7-43F0-A9CA-C2386E77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84CEE-222D-4C54-A1B6-14F3EB2F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A9611-97A8-42CE-9A88-07B29744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CB3DB-4AC7-45FF-874F-63F65363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633DB-1EC7-497F-A03D-E46635DFE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8AFB-9983-4A72-B0FE-DB7A64F8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51B36-AE12-466A-98DB-7C0E0ECD5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DB9BE-5741-4849-B3B3-0300F9A4F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BB68A-7F6C-4CA6-A608-9C8DDB32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4F3F0-F4D3-40D9-93E1-65A64892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29EA0-D74B-496E-8C07-9683140B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24596-EFE7-4909-96F5-780E2D5A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213B2-4D64-462D-A1B1-59245316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3F13F-EF4C-4008-8DD6-7AD35915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88F9D-4A74-4381-A25D-E59219B2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A237C-6D48-420A-A805-9B3D3A47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4D7F-3C99-45F3-817E-664FDA49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54C34-EB42-4A34-92D4-E02924D0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5EBD0-2A1D-40E7-B9E5-58C1E38BD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03B1B-CCB0-4E75-B622-B39C1E41B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B24C9-9D67-49A6-A094-6EF8D16B7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B2A4B-81FE-46A8-91A2-5A2B09ED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7B976-9108-485F-8AF9-A145E8A5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AB3D0-DF54-4E00-8E14-87A30672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B56EC-5980-4172-A553-6FE7D72A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E9607-4B9E-497E-8F1D-EE767CD9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CE4E3-4C76-49BC-9A1C-48F9A4BD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5C4B-512C-4C8E-A166-DB2FBB87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07945-1C27-470F-B945-9B345DBA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DBDB9-B88B-4799-99B0-B27265FE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FA572-4D07-4C02-98A8-260D9E18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859B2-7FED-46EC-8FE0-714F6A6A5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790A1-D8A6-4847-80E4-F113C7473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416E6-822A-4363-9347-61351856A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42F08-C284-4F8B-86FF-4D82757E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ABF92-0E2B-4FF1-8E19-1DFEADB9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569DB-CB07-4CDE-A4E5-6790F0BD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7826F-B602-4711-A22A-A6F8E940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7EE4-9B03-495C-AEE2-A48D45E1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E1266-0758-4805-BC8B-995A54B5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EAFF7-D8B5-497E-B95F-EA16FC27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98980-AF28-4C7D-92E1-977448E4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BFA52-99C1-44AD-A76F-23D2EF33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22275-B023-403B-AC35-447B1BE9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1E7FF-EF35-485F-B01A-27ABBCA5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30906-506E-447C-802D-D7875BB33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FE92-C4EC-4215-86CE-4174A173D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8AF9-3BB3-4399-9FB8-D7129EF4EC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C431-37DB-4D3C-87E0-83FA8CFA00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8FB6-4096-40B3-BFB4-6A54B6D8D0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C1E0-802E-4559-8FFE-34EAD46BB8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516C-5189-4AC3-96BA-A767E8AAD8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E1DE-1651-49CC-B9CA-A439206FA0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E901-96CC-41D4-91A3-0E1A5C490D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55640" y="17427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Verdana"/>
              </a:rPr>
              <a:t>MERCADO PARA LA AGROINDUSTRIA PERUAN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2263680" y="3429000"/>
            <a:ext cx="460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Fernando Cillóni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www.informaccion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3708360" y="836640"/>
            <a:ext cx="1971720" cy="523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154080" y="957240"/>
          <a:ext cx="8961480" cy="520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080" y="957240"/>
                    <a:ext cx="8961480" cy="52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179280" y="6248520"/>
            <a:ext cx="4419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ercado Productores de Sta Ani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410920" y="-90720"/>
            <a:ext cx="6193080" cy="11430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ZUCAR: ABASTECIMIENTO EN EL MERCADO PRODUCTORES DE SANTA ANITA (TM)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68360" y="-18000"/>
            <a:ext cx="67327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LGODON: PRODUCC. NACIONAL (TM) Y PRECIOS CHACRA* (US$ / KG)  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01 - dic 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-59040" y="836640"/>
            <a:ext cx="9176040" cy="6023160"/>
            <a:chOff x="-59040" y="836640"/>
            <a:chExt cx="9176040" cy="6023160"/>
          </a:xfrm>
        </p:grpSpPr>
        <p:sp>
          <p:nvSpPr>
            <p:cNvPr id="409" name=""/>
            <p:cNvSpPr/>
            <p:nvPr/>
          </p:nvSpPr>
          <p:spPr>
            <a:xfrm>
              <a:off x="-59040" y="6400800"/>
              <a:ext cx="378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* Precio de principal variedad: Algodón Tangui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Fuente: MINA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410" name=""/>
            <p:cNvGraphicFramePr/>
            <p:nvPr/>
          </p:nvGraphicFramePr>
          <p:xfrm>
            <a:off x="6480" y="1233360"/>
            <a:ext cx="9110520" cy="4902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0" y="1233360"/>
                      <a:ext cx="9110520" cy="490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12" name=""/>
            <p:cNvGrpSpPr/>
            <p:nvPr/>
          </p:nvGrpSpPr>
          <p:grpSpPr>
            <a:xfrm>
              <a:off x="7315200" y="836640"/>
              <a:ext cx="1757880" cy="1066680"/>
              <a:chOff x="7315200" y="836640"/>
              <a:chExt cx="1757880" cy="1066680"/>
            </a:xfrm>
          </p:grpSpPr>
          <p:sp>
            <p:nvSpPr>
              <p:cNvPr id="413" name=""/>
              <p:cNvSpPr/>
              <p:nvPr/>
            </p:nvSpPr>
            <p:spPr>
              <a:xfrm>
                <a:off x="7315200" y="836640"/>
                <a:ext cx="1752480" cy="1066680"/>
              </a:xfrm>
              <a:prstGeom prst="flowChartAlternateProcess">
                <a:avLst/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923240" y="912960"/>
                <a:ext cx="406080" cy="2462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 </a:t>
                </a:r>
                <a:r>
                  <a:rPr b="1" lang="es-MX" sz="10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TM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429320" y="1141560"/>
                <a:ext cx="1104480" cy="6955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Año - 02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Año - 03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Variación %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326800" y="1081080"/>
                <a:ext cx="746280" cy="7506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127,368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123,367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&lt; 3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"/>
          <p:cNvGrpSpPr/>
          <p:nvPr/>
        </p:nvGrpSpPr>
        <p:grpSpPr>
          <a:xfrm>
            <a:off x="168120" y="919080"/>
            <a:ext cx="9018720" cy="5797080"/>
            <a:chOff x="168120" y="919080"/>
            <a:chExt cx="9018720" cy="5797080"/>
          </a:xfrm>
        </p:grpSpPr>
        <p:graphicFrame>
          <p:nvGraphicFramePr>
            <p:cNvPr id="420" name=""/>
            <p:cNvGraphicFramePr/>
            <p:nvPr/>
          </p:nvGraphicFramePr>
          <p:xfrm>
            <a:off x="168120" y="919080"/>
            <a:ext cx="9018720" cy="5264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2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8120" y="919080"/>
                      <a:ext cx="9018720" cy="526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2" name=""/>
            <p:cNvSpPr/>
            <p:nvPr/>
          </p:nvSpPr>
          <p:spPr>
            <a:xfrm>
              <a:off x="457200" y="6165720"/>
              <a:ext cx="23018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*Estimado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MINA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25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LGODON: PRODUCCION NACIONAL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(TM) - 2003 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050560" y="-907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ESPARRAGO FRESC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999 -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95360" y="643428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77840" y="884160"/>
            <a:ext cx="8907480" cy="5876280"/>
            <a:chOff x="177840" y="884160"/>
            <a:chExt cx="8907480" cy="5876280"/>
          </a:xfrm>
        </p:grpSpPr>
        <p:graphicFrame>
          <p:nvGraphicFramePr>
            <p:cNvPr id="429" name=""/>
            <p:cNvGraphicFramePr/>
            <p:nvPr/>
          </p:nvGraphicFramePr>
          <p:xfrm>
            <a:off x="177840" y="884160"/>
            <a:ext cx="8907480" cy="5475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7840" y="884160"/>
                      <a:ext cx="8907480" cy="547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1" name=""/>
            <p:cNvSpPr/>
            <p:nvPr/>
          </p:nvSpPr>
          <p:spPr>
            <a:xfrm>
              <a:off x="496440" y="645156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D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36800" y="6453360"/>
              <a:ext cx="24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(*) Cifras preliminares 200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33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2050920" y="115920"/>
            <a:ext cx="680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SA: MERCADO DEL ESPARRAGO FRESC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E 00 – DIC 02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47520" y="1035000"/>
            <a:ext cx="9167760" cy="5550120"/>
            <a:chOff x="47520" y="1035000"/>
            <a:chExt cx="9167760" cy="5550120"/>
          </a:xfrm>
        </p:grpSpPr>
        <p:graphicFrame>
          <p:nvGraphicFramePr>
            <p:cNvPr id="437" name=""/>
            <p:cNvGraphicFramePr/>
            <p:nvPr/>
          </p:nvGraphicFramePr>
          <p:xfrm>
            <a:off x="47520" y="1035000"/>
            <a:ext cx="9167760" cy="5294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7520" y="1035000"/>
                      <a:ext cx="9167760" cy="52945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39" name=""/>
            <p:cNvSpPr/>
            <p:nvPr/>
          </p:nvSpPr>
          <p:spPr>
            <a:xfrm>
              <a:off x="179280" y="6308640"/>
              <a:ext cx="296244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Fuente : AMS / USDA 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65520" y="2297160"/>
              <a:ext cx="490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2000                          2001             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4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MANG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(KG) CAMPAÑAS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1999/2000 -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3/ 2004*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95400" y="1057320"/>
          <a:ext cx="9119880" cy="534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400" y="1057320"/>
                    <a:ext cx="9119880" cy="53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"/>
          <p:cNvSpPr/>
          <p:nvPr/>
        </p:nvSpPr>
        <p:spPr>
          <a:xfrm>
            <a:off x="28800" y="6308640"/>
            <a:ext cx="239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ffff"/>
                </a:solidFill>
                <a:latin typeface="Arial"/>
                <a:ea typeface="Arial"/>
              </a:rPr>
              <a:t>(*) Hasta 19 de enero 200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Fuente: AD</a:t>
            </a:r>
            <a:r>
              <a:rPr b="1" i="1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UAN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181080" y="645948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in" orient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612720" y="1159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USA: MERCADO DEL MANGO 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ENE 00 – DIC 02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0" y="1035000"/>
            <a:ext cx="9215280" cy="5684040"/>
            <a:chOff x="0" y="1035000"/>
            <a:chExt cx="9215280" cy="5684040"/>
          </a:xfrm>
        </p:grpSpPr>
        <p:graphicFrame>
          <p:nvGraphicFramePr>
            <p:cNvPr id="454" name=""/>
            <p:cNvGraphicFramePr/>
            <p:nvPr/>
          </p:nvGraphicFramePr>
          <p:xfrm>
            <a:off x="47520" y="1035000"/>
            <a:ext cx="9167760" cy="5294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520" y="1035000"/>
                      <a:ext cx="9167760" cy="52945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56" name=""/>
            <p:cNvSpPr/>
            <p:nvPr/>
          </p:nvSpPr>
          <p:spPr>
            <a:xfrm>
              <a:off x="0" y="6381720"/>
              <a:ext cx="274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Fuente : AMS / USDA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37120" y="2270160"/>
              <a:ext cx="46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2000                        2001          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split dir="out" orient="horz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050920" y="-243360"/>
            <a:ext cx="69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UVAS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br>
              <a:rPr sz="1800"/>
            </a:b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98/99, 99/00, 00/01, 01/02, 02/03 Y 03/0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800" y="914400"/>
            <a:ext cx="9059760" cy="5917320"/>
            <a:chOff x="1800" y="914400"/>
            <a:chExt cx="9059760" cy="5917320"/>
          </a:xfrm>
        </p:grpSpPr>
        <p:graphicFrame>
          <p:nvGraphicFramePr>
            <p:cNvPr id="461" name=""/>
            <p:cNvGraphicFramePr/>
            <p:nvPr/>
          </p:nvGraphicFramePr>
          <p:xfrm>
            <a:off x="11160" y="914400"/>
            <a:ext cx="9050400" cy="539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160" y="914400"/>
                      <a:ext cx="9050400" cy="539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3" name=""/>
            <p:cNvSpPr/>
            <p:nvPr/>
          </p:nvSpPr>
          <p:spPr>
            <a:xfrm>
              <a:off x="1800" y="6524640"/>
              <a:ext cx="170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50400" y="6502320"/>
              <a:ext cx="218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(*)Hasta Diciembre del 2003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65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411280" y="115920"/>
            <a:ext cx="6481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TADOS UNIDOS: ABASTECIMIENTO DE UVA FRESCA  1999 - 2002 (TM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0" y="1035000"/>
            <a:ext cx="9215280" cy="5684040"/>
            <a:chOff x="0" y="1035000"/>
            <a:chExt cx="9215280" cy="5684040"/>
          </a:xfrm>
        </p:grpSpPr>
        <p:grpSp>
          <p:nvGrpSpPr>
            <p:cNvPr id="471" name=""/>
            <p:cNvGrpSpPr/>
            <p:nvPr/>
          </p:nvGrpSpPr>
          <p:grpSpPr>
            <a:xfrm>
              <a:off x="0" y="1035000"/>
              <a:ext cx="9215280" cy="5684040"/>
              <a:chOff x="0" y="1035000"/>
              <a:chExt cx="9215280" cy="5684040"/>
            </a:xfrm>
          </p:grpSpPr>
          <p:graphicFrame>
            <p:nvGraphicFramePr>
              <p:cNvPr id="472" name=""/>
              <p:cNvGraphicFramePr/>
              <p:nvPr/>
            </p:nvGraphicFramePr>
            <p:xfrm>
              <a:off x="47520" y="1035000"/>
              <a:ext cx="9167760" cy="5418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73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7520" y="1035000"/>
                        <a:ext cx="9167760" cy="5418360"/>
                      </a:xfrm>
                      <a:prstGeom prst="rect">
                        <a:avLst/>
                      </a:prstGeom>
                      <a:ln w="0">
                        <a:noFill/>
                      </a:ln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</p:spPr>
                  </p:pic>
                </p:oleObj>
              </a:graphicData>
            </a:graphic>
          </p:graphicFrame>
          <p:sp>
            <p:nvSpPr>
              <p:cNvPr id="474" name=""/>
              <p:cNvSpPr/>
              <p:nvPr/>
            </p:nvSpPr>
            <p:spPr>
              <a:xfrm>
                <a:off x="0" y="6381720"/>
                <a:ext cx="334800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Verdana"/>
                  </a:rPr>
                  <a:t>Fuente : Gobierno de Estados Unidos</a:t>
                </a:r>
                <a:r>
                  <a:rPr b="1" lang="es-ES_tradnl" sz="16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2790720" y="2060640"/>
              <a:ext cx="48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1999              2000                2001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split dir="out" orient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79280" y="-243360"/>
            <a:ext cx="7164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LTA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(KG NETOS)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1999,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2000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2 y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-6120" y="836640"/>
            <a:ext cx="8980200" cy="6012360"/>
            <a:chOff x="-6120" y="836640"/>
            <a:chExt cx="8980200" cy="6012360"/>
          </a:xfrm>
        </p:grpSpPr>
        <p:graphicFrame>
          <p:nvGraphicFramePr>
            <p:cNvPr id="478" name=""/>
            <p:cNvGraphicFramePr/>
            <p:nvPr/>
          </p:nvGraphicFramePr>
          <p:xfrm>
            <a:off x="0" y="836640"/>
            <a:ext cx="8974080" cy="5437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8974080" cy="543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0" name=""/>
            <p:cNvSpPr/>
            <p:nvPr/>
          </p:nvSpPr>
          <p:spPr>
            <a:xfrm>
              <a:off x="325080" y="623736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-6120" y="6541920"/>
              <a:ext cx="24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(*) Datos preliminares 200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82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95280" y="-76680"/>
            <a:ext cx="6491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PAPA: PRECIOS Y VOLUMENES SUMINISTRADOS AL MERCADO MAYORISTA DE LIMA 2001, 2002 Y 2003</a:t>
            </a:r>
            <a:r>
              <a:rPr b="0" lang="es-ES_tradnl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-10800" y="981000"/>
            <a:ext cx="9288000" cy="5704920"/>
            <a:chOff x="-10800" y="981000"/>
            <a:chExt cx="9288000" cy="5704920"/>
          </a:xfrm>
        </p:grpSpPr>
        <p:sp>
          <p:nvSpPr>
            <p:cNvPr id="333" name=""/>
            <p:cNvSpPr/>
            <p:nvPr/>
          </p:nvSpPr>
          <p:spPr>
            <a:xfrm>
              <a:off x="-10800" y="6165720"/>
              <a:ext cx="26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NOTA:  Precio de Papa Blanc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EMMS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334" name=""/>
            <p:cNvGraphicFramePr/>
            <p:nvPr/>
          </p:nvGraphicFramePr>
          <p:xfrm>
            <a:off x="0" y="998280"/>
            <a:ext cx="9277200" cy="5238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3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98280"/>
                      <a:ext cx="9277200" cy="523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6" name=""/>
            <p:cNvSpPr/>
            <p:nvPr/>
          </p:nvSpPr>
          <p:spPr>
            <a:xfrm>
              <a:off x="7362720" y="98100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1120" y="105696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15200" y="1285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74680" y="1225440"/>
              <a:ext cx="7462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480,956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462,86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&lt; 4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050560" y="-171720"/>
            <a:ext cx="7201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ITRICOS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(KG NETOS)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 1999, 2000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2 y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3240" y="1071720"/>
            <a:ext cx="8947080" cy="5455080"/>
            <a:chOff x="3240" y="1071720"/>
            <a:chExt cx="8947080" cy="5455080"/>
          </a:xfrm>
        </p:grpSpPr>
        <p:graphicFrame>
          <p:nvGraphicFramePr>
            <p:cNvPr id="486" name=""/>
            <p:cNvGraphicFramePr/>
            <p:nvPr/>
          </p:nvGraphicFramePr>
          <p:xfrm>
            <a:off x="3240" y="1071720"/>
            <a:ext cx="8947080" cy="5155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8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40" y="1071720"/>
                      <a:ext cx="8947080" cy="51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8" name=""/>
            <p:cNvSpPr/>
            <p:nvPr/>
          </p:nvSpPr>
          <p:spPr>
            <a:xfrm>
              <a:off x="74160" y="621972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89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340000" y="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STINO MENSUAL DE LAS EXPORTACIONES DE CITR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NERO 1999 - 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DICIEMBRE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200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3 (TM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57240" y="981000"/>
            <a:ext cx="9086760" cy="6092280"/>
            <a:chOff x="57240" y="981000"/>
            <a:chExt cx="9086760" cy="6092280"/>
          </a:xfrm>
        </p:grpSpPr>
        <p:graphicFrame>
          <p:nvGraphicFramePr>
            <p:cNvPr id="493" name=""/>
            <p:cNvGraphicFramePr/>
            <p:nvPr/>
          </p:nvGraphicFramePr>
          <p:xfrm>
            <a:off x="57240" y="981000"/>
            <a:ext cx="90867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240" y="981000"/>
                      <a:ext cx="90867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5" name=""/>
            <p:cNvSpPr/>
            <p:nvPr/>
          </p:nvSpPr>
          <p:spPr>
            <a:xfrm>
              <a:off x="124560" y="6553080"/>
              <a:ext cx="1665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Fuente: AD</a:t>
              </a:r>
              <a:r>
                <a:rPr b="1" i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258920" y="2060640"/>
              <a:ext cx="73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Verdana"/>
                </a:rPr>
                <a:t>1999            2000            2001         2002          2003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9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TADOS UNIDOS: ABASTECIMIENTO DE CITRICOS FRESCOS 2000 - 2002 (TM)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57960" y="984240"/>
            <a:ext cx="9119520" cy="5864400"/>
            <a:chOff x="57960" y="984240"/>
            <a:chExt cx="9119520" cy="5864400"/>
          </a:xfrm>
        </p:grpSpPr>
        <p:graphicFrame>
          <p:nvGraphicFramePr>
            <p:cNvPr id="501" name=""/>
            <p:cNvGraphicFramePr/>
            <p:nvPr/>
          </p:nvGraphicFramePr>
          <p:xfrm>
            <a:off x="81000" y="984240"/>
            <a:ext cx="909648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0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1000" y="984240"/>
                      <a:ext cx="909648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3" name=""/>
            <p:cNvSpPr/>
            <p:nvPr/>
          </p:nvSpPr>
          <p:spPr>
            <a:xfrm>
              <a:off x="57960" y="6572160"/>
              <a:ext cx="257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Verdana"/>
                </a:rPr>
                <a:t>Fuente: Gobierno Estados Unido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973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81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229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123640" y="-17172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Índice del Tipo de Cambio e Índice de Precios al Consumidor de Perú y Brasil (Año 1994=100)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3780000" y="6427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"/>
          <p:cNvSpPr/>
          <p:nvPr/>
        </p:nvSpPr>
        <p:spPr>
          <a:xfrm>
            <a:off x="158760" y="6251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0" y="765000"/>
            <a:ext cx="9212400" cy="6125040"/>
            <a:chOff x="0" y="765000"/>
            <a:chExt cx="9212400" cy="6125040"/>
          </a:xfrm>
        </p:grpSpPr>
        <p:sp>
          <p:nvSpPr>
            <p:cNvPr id="514" name=""/>
            <p:cNvSpPr/>
            <p:nvPr/>
          </p:nvSpPr>
          <p:spPr>
            <a:xfrm>
              <a:off x="0" y="6335640"/>
              <a:ext cx="86756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Fuente: International Financial Statistics-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national Monetary Found.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515" name=""/>
            <p:cNvGraphicFramePr/>
            <p:nvPr/>
          </p:nvGraphicFramePr>
          <p:xfrm>
            <a:off x="54000" y="765000"/>
            <a:ext cx="9158400" cy="538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000" y="765000"/>
                      <a:ext cx="9158400" cy="538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55640" y="17427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Verdana"/>
              </a:rPr>
              <a:t>MUCHAS GRACI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2263680" y="3429000"/>
            <a:ext cx="460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Fernando Cillóni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www.informaccion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3708360" y="836640"/>
            <a:ext cx="1971720" cy="523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55440" y="1068480"/>
            <a:ext cx="9102960" cy="5730480"/>
            <a:chOff x="55440" y="1068480"/>
            <a:chExt cx="9102960" cy="5730480"/>
          </a:xfrm>
        </p:grpSpPr>
        <p:graphicFrame>
          <p:nvGraphicFramePr>
            <p:cNvPr id="343" name=""/>
            <p:cNvGraphicFramePr/>
            <p:nvPr/>
          </p:nvGraphicFramePr>
          <p:xfrm>
            <a:off x="55440" y="1068480"/>
            <a:ext cx="9102960" cy="5276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5440" y="1068480"/>
                      <a:ext cx="9102960" cy="527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5" name=""/>
            <p:cNvSpPr/>
            <p:nvPr/>
          </p:nvSpPr>
          <p:spPr>
            <a:xfrm>
              <a:off x="457200" y="6248520"/>
              <a:ext cx="23018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EMMS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PAPA: ABASTECIMIENTO EN EL MERCADO MAYORISTA DE LIMA (TM)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4947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MANDARINA: Precios y volúmenes suministrados al Mercado Mayorista de Lima 2001, 2002 y 200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7160" y="1181160"/>
            <a:ext cx="9096480" cy="5678640"/>
            <a:chOff x="47160" y="1181160"/>
            <a:chExt cx="9096480" cy="5678640"/>
          </a:xfrm>
        </p:grpSpPr>
        <p:graphicFrame>
          <p:nvGraphicFramePr>
            <p:cNvPr id="351" name=""/>
            <p:cNvGraphicFramePr/>
            <p:nvPr/>
          </p:nvGraphicFramePr>
          <p:xfrm>
            <a:off x="66600" y="1181160"/>
            <a:ext cx="9077040" cy="5105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6600" y="1181160"/>
                      <a:ext cx="9077040" cy="510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3" name=""/>
            <p:cNvSpPr/>
            <p:nvPr/>
          </p:nvSpPr>
          <p:spPr>
            <a:xfrm>
              <a:off x="47160" y="6400800"/>
              <a:ext cx="324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NOTA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Verdana"/>
                </a:rPr>
                <a:t>: 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Verdana"/>
                </a:rPr>
                <a:t>Precio de Mandarina Satsuma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Verdana"/>
                </a:rPr>
                <a:t>Fuente: Mercado Mayorista de Frutas  Nº 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205400" y="1219320"/>
              <a:ext cx="17524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13800" y="129564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34200" y="1524240"/>
              <a:ext cx="11044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278200" y="1494000"/>
              <a:ext cx="575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43,958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49,99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1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231840" y="907920"/>
            <a:ext cx="8877240" cy="6102720"/>
            <a:chOff x="231840" y="907920"/>
            <a:chExt cx="8877240" cy="6102720"/>
          </a:xfrm>
        </p:grpSpPr>
        <p:graphicFrame>
          <p:nvGraphicFramePr>
            <p:cNvPr id="361" name=""/>
            <p:cNvGraphicFramePr/>
            <p:nvPr/>
          </p:nvGraphicFramePr>
          <p:xfrm>
            <a:off x="231840" y="907920"/>
            <a:ext cx="8877240" cy="5183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31840" y="907920"/>
                      <a:ext cx="8877240" cy="518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3" name=""/>
            <p:cNvSpPr/>
            <p:nvPr/>
          </p:nvSpPr>
          <p:spPr>
            <a:xfrm>
              <a:off x="239760" y="6124680"/>
              <a:ext cx="35053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Fuente: Mercado Mayorista de Frutas N° 2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Elaboración : Inform@cción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3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123640" y="-171720"/>
            <a:ext cx="64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MANDARINA: ABASTECIMIENTO EN EL MERCADO MAYORISTA DE LIMA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198360" y="981000"/>
          <a:ext cx="8945640" cy="507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360" y="981000"/>
                    <a:ext cx="8945640" cy="50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0" y="6064200"/>
            <a:ext cx="4527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IN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*Estima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6188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RROZ: PRODUCCION NACIONAL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(TM)  -  2003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339640" y="-76680"/>
            <a:ext cx="6194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ARROZ: ABASTECIMIENTO EN EL MERCADO PRODUCTORES DE SANTA ANITA (TM) Y PRECIOS MAYORISTA (US$ / KG)  ene 01 - dic 03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-11160" y="914400"/>
            <a:ext cx="9231480" cy="5942880"/>
            <a:chOff x="-11160" y="914400"/>
            <a:chExt cx="9231480" cy="5942880"/>
          </a:xfrm>
        </p:grpSpPr>
        <p:graphicFrame>
          <p:nvGraphicFramePr>
            <p:cNvPr id="375" name=""/>
            <p:cNvGraphicFramePr/>
            <p:nvPr/>
          </p:nvGraphicFramePr>
          <p:xfrm>
            <a:off x="0" y="990720"/>
            <a:ext cx="9220320" cy="5505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7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90720"/>
                      <a:ext cx="9220320" cy="550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7" name=""/>
            <p:cNvSpPr/>
            <p:nvPr/>
          </p:nvSpPr>
          <p:spPr>
            <a:xfrm>
              <a:off x="7140600" y="914400"/>
              <a:ext cx="19270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9120" y="990720"/>
              <a:ext cx="406080" cy="246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67600" y="1219320"/>
              <a:ext cx="1292040" cy="596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222400" y="1209600"/>
              <a:ext cx="680760" cy="596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363,597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394,618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9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-11160" y="6519960"/>
              <a:ext cx="443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Fuente: Mercado Productores de Santa Anit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8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66600" y="1260360"/>
          <a:ext cx="8945640" cy="507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600" y="1260360"/>
                    <a:ext cx="8945640" cy="50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08000" y="6264360"/>
            <a:ext cx="4419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ercado Productores de Sta Ani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195280" y="-360"/>
            <a:ext cx="69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RROZ: ABASTECIMIENTO EN EL MERCADO PRODUCTORES DE SANTA ANITA (TM) -  2003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123640" y="-27360"/>
            <a:ext cx="6867720" cy="11430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ZUCAR: ABASTECIMIENTO EN EL MERCADO PRODUCTORES DE SANTA ANITA (TM) Y PRECIOS MAYORISTA (US$ / KG) ene 01 - dic 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-11160" y="1052640"/>
            <a:ext cx="9123480" cy="5804640"/>
            <a:chOff x="-11160" y="1052640"/>
            <a:chExt cx="9123480" cy="5804640"/>
          </a:xfrm>
        </p:grpSpPr>
        <p:sp>
          <p:nvSpPr>
            <p:cNvPr id="392" name=""/>
            <p:cNvSpPr/>
            <p:nvPr/>
          </p:nvSpPr>
          <p:spPr>
            <a:xfrm>
              <a:off x="-11160" y="6519960"/>
              <a:ext cx="443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Fuente: Mercado Productores de Santa Anit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393" name=""/>
            <p:cNvGraphicFramePr/>
            <p:nvPr/>
          </p:nvGraphicFramePr>
          <p:xfrm>
            <a:off x="6480" y="1123920"/>
            <a:ext cx="9074160" cy="5276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9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0" y="1123920"/>
                      <a:ext cx="9074160" cy="527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5" name=""/>
            <p:cNvSpPr/>
            <p:nvPr/>
          </p:nvSpPr>
          <p:spPr>
            <a:xfrm>
              <a:off x="7451640" y="1052640"/>
              <a:ext cx="16606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047080" y="112860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67480" y="1357200"/>
              <a:ext cx="11052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424360" y="1327320"/>
              <a:ext cx="64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251,25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260,99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17:26:36Z</dcterms:created>
  <dc:creator>Luigi Riva Melofiro</dc:creator>
  <dc:description/>
  <dc:language>en-US</dc:language>
  <cp:lastModifiedBy>Asociacion Civil</cp:lastModifiedBy>
  <dcterms:modified xsi:type="dcterms:W3CDTF">2004-01-29T00:24:58Z</dcterms:modified>
  <cp:revision>50</cp:revision>
  <dc:subject/>
  <dc:title>COMERCIALIZACION DE ARROZ EN EL MERCADO PRODUCTORES DE STA. ANITA POR   AÑO 1999, 2000, 2001 y 2002 (TM)</dc:title>
</cp:coreProperties>
</file>